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1.jpeg" ContentType="image/jpeg"/>
  <Override PartName="/ppt/media/image9.jpeg" ContentType="image/jpeg"/>
  <Override PartName="/ppt/media/image8.png" ContentType="image/png"/>
  <Override PartName="/ppt/media/image16.wmf" ContentType="image/x-wmf"/>
  <Override PartName="/ppt/media/image19.png" ContentType="image/png"/>
  <Override PartName="/ppt/media/image17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F18F-68B4-4508-8A31-8E78039B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B46-E526-421B-870B-84402781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9135-BD98-4FF9-9A28-BF11741C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693-36A6-40A7-835D-6B3E18D4C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608-C1F5-412A-84C8-6F184C6B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CBF-F8CC-4699-A28F-B3469EED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CAB5-DBDF-41CE-9088-FBC4154E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F2F-22DE-480D-9AF2-3F75B2B7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F45-A497-4749-99DC-5410DBD6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C41C-6CD0-4FA9-BC69-72B40554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90A-C1F1-4155-827B-A45899F5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3A2-D630-4F20-B9DF-D415F8F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A8E3-98AC-4759-AADE-C2F34FD71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omepage.ntlworld.com/vivian.c/SLA/index.htm" TargetMode="External"/><Relationship Id="rId2" Type="http://schemas.openxmlformats.org/officeDocument/2006/relationships/hyperlink" Target="http://earthrenewal.org/secondlang.htm" TargetMode="External"/><Relationship Id="rId3" Type="http://schemas.openxmlformats.org/officeDocument/2006/relationships/hyperlink" Target="http://www.pps.k12.or.us/curriculum/PDFs/ESL_Modifications.pdf" TargetMode="External"/><Relationship Id="rId4" Type="http://schemas.openxmlformats.org/officeDocument/2006/relationships/hyperlink" Target="http://www.sdkrashen.com/Principles_and_Practice/Principles_and_Practice.pdf" TargetMode="External"/><Relationship Id="rId5" Type="http://schemas.openxmlformats.org/officeDocument/2006/relationships/hyperlink" Target="https://www.azbn.gov/documents/news/2010/educators-retreat/Lavache.2nd%20Language%20Acquisition.pdf" TargetMode="External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2.uni-wuppertal.de/FB4/anglistik/multhaup/methods_elt/pop_ups/universal_grammar_albert.htm" TargetMode="External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 Approaches to Second Language Acquis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presentation is designed to give a brief overview of formal approaches to SLA, as well as contextual factors that affect SLA and tips for teac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ci Stin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Murray Middl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rci.stinson@mnp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C900446246[1]"/>
          <p:cNvPicPr/>
          <p:nvPr/>
        </p:nvPicPr>
        <p:blipFill>
          <a:blip r:embed="rId1"/>
          <a:stretch/>
        </p:blipFill>
        <p:spPr>
          <a:xfrm>
            <a:off x="7391520" y="1676520"/>
            <a:ext cx="14126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L Learning in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rs. Stinson’s Class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 Mrs. Stinson’s Classroom we prefer the Interactionist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give feedback, both positive and negative in a loving and respectfu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conversations, both academic and social, where we express ourselves in a respectful ma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work in groups with Mrs. Stinson as the facilitator, providing input and scaffolding for languag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MC900231633[1]"/>
          <p:cNvPicPr/>
          <p:nvPr/>
        </p:nvPicPr>
        <p:blipFill>
          <a:blip r:embed="rId1"/>
          <a:stretch/>
        </p:blipFill>
        <p:spPr>
          <a:xfrm>
            <a:off x="6477120" y="304920"/>
            <a:ext cx="2514600" cy="17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n Second Language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n SLA Approac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homepage.ntlworld.com/vivian.c/SLA/index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ossary of terms on first and second language acqui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earthrenewal.org/secondlang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L/Bilingual Resource Guide for Mainstream Teac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ps.k12.or.us/curriculum/PDFs/ESL_Modifications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les and Practice in Second Language Acquisition by Stephen D Krashen – online book which is full of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sdkrashen.com/Principles_and_Practice/Principles_and_Practice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ing Teaching Practices within ESL Environments: Understanding Second Language Acquisition Concepts – a PowerPoint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 a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s://www.azbn.gov/documents/news/2010/educators-retreat/Lavache.2nd%20Language%20Acquisition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9" descr="CAS7L3M2"/>
          <p:cNvPicPr/>
          <p:nvPr/>
        </p:nvPicPr>
        <p:blipFill>
          <a:blip r:embed="rId6"/>
          <a:stretch/>
        </p:blipFill>
        <p:spPr>
          <a:xfrm>
            <a:off x="6858000" y="914400"/>
            <a:ext cx="1905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bert, M. (n.d.). Universal Grammar and Linguistics. Z Mag, Retrieved from: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2.uni-wuppertal.de/FB4/anglistik/multhaup/methods_elt/pop_ups/universal_grammar_alber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and Language Development. PowerPoint. Retrieved from: http://www.unco.edu/doit/model%20courses/edi%20111powerpoints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irezen, M. (1988). Behaviorist Theory and Language Learning. Retrieved from:  http://www.efdergi.hacettepe.edu.tr/19883MEHMET%20DEM%C4%B0REZEN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camilla, K. &amp; Grassi, E. (2000). A Brief Description of Second Language Acquisition. Professional Development Resource Series, “Second Language Acquisition”, BUENO Center, University of Colorado, Boulder. Retrieved from: http://www.wce.wwu.edu/Resources/CIRCLE/Articles/SLA%20Escamilla+Grassi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am Chomsky. Gale Encyclopedia of Psychology. 2nd Ed. (2001). Retrieved from: http://www.chomsky.info/bios/2001----02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ories of Second Language Acquisition. (n.d.) Retrieved from: http://www2.uni-wuppertal.de/FB4/anglistik/multhaup/methods_elt/6b_theories_of_sla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rci Stin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: sirci.stinson@mnps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learning-resources-150x150"/>
          <p:cNvPicPr/>
          <p:nvPr/>
        </p:nvPicPr>
        <p:blipFill>
          <a:blip r:embed="rId2"/>
          <a:stretch/>
        </p:blipFill>
        <p:spPr>
          <a:xfrm>
            <a:off x="6553080" y="15228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free-burma-gif"/>
          <p:cNvPicPr/>
          <p:nvPr/>
        </p:nvPicPr>
        <p:blipFill>
          <a:blip r:embed="rId3"/>
          <a:stretch/>
        </p:blipFill>
        <p:spPr>
          <a:xfrm>
            <a:off x="3581280" y="5029200"/>
            <a:ext cx="544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inn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Behaviorism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ory states that children learn language by imi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mulus or a lack of stimulus prompts learners to imitate what they h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or negative responses will then prompt learners to keep on imitating or refine what they are imitating as their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kinner"/>
          <p:cNvPicPr/>
          <p:nvPr/>
        </p:nvPicPr>
        <p:blipFill>
          <a:blip r:embed="rId1"/>
          <a:stretch/>
        </p:blipFill>
        <p:spPr>
          <a:xfrm>
            <a:off x="7238880" y="228600"/>
            <a:ext cx="1119240" cy="159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imitation"/>
          <p:cNvPicPr/>
          <p:nvPr/>
        </p:nvPicPr>
        <p:blipFill>
          <a:blip r:embed="rId2"/>
          <a:stretch/>
        </p:blipFill>
        <p:spPr>
          <a:xfrm>
            <a:off x="5916600" y="4495680"/>
            <a:ext cx="16336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omsky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LAD The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part of the nativist perspectiv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ory states that learners have a language acquisition device (LAD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D is a brain structure that consists of neural wi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D theory states that learners have an innate ability to know the structure and rules of a language, and this facilitates language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AD theory challenged Skinner and the behaviorism perspectiv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theory also led to a reexamination of the role of transfer in second language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homsky"/>
          <p:cNvPicPr/>
          <p:nvPr/>
        </p:nvPicPr>
        <p:blipFill>
          <a:blip r:embed="rId1"/>
          <a:stretch/>
        </p:blipFill>
        <p:spPr>
          <a:xfrm>
            <a:off x="6553080" y="152280"/>
            <a:ext cx="1565280" cy="1905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dglxasset[1]"/>
          <p:cNvPicPr/>
          <p:nvPr/>
        </p:nvPicPr>
        <p:blipFill>
          <a:blip r:embed="rId2"/>
          <a:stretch/>
        </p:blipFill>
        <p:spPr>
          <a:xfrm>
            <a:off x="7848720" y="2895480"/>
            <a:ext cx="8222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nat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is not learned like other disciplines, but is acquired through an innate ability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natism lead to Universal Gram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Grammar is the innate knowledge of the rules and principles that are found in every langu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al Grammar may not be available for second language learn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innate"/>
          <p:cNvPicPr/>
          <p:nvPr/>
        </p:nvPicPr>
        <p:blipFill>
          <a:blip r:embed="rId1"/>
          <a:stretch/>
        </p:blipFill>
        <p:spPr>
          <a:xfrm>
            <a:off x="6324480" y="228600"/>
            <a:ext cx="1179720" cy="1676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innate 3"/>
          <p:cNvPicPr/>
          <p:nvPr/>
        </p:nvPicPr>
        <p:blipFill>
          <a:blip r:embed="rId2"/>
          <a:stretch/>
        </p:blipFill>
        <p:spPr>
          <a:xfrm>
            <a:off x="3581280" y="4800600"/>
            <a:ext cx="2133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on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ist approach exists between the nature versus nurture approac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ist approach – three main the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D21298_"/>
          <p:cNvPicPr/>
          <p:nvPr/>
        </p:nvPicPr>
        <p:blipFill>
          <a:blip r:embed="rId1"/>
          <a:stretch/>
        </p:blipFill>
        <p:spPr>
          <a:xfrm>
            <a:off x="1752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BD21298_"/>
          <p:cNvPicPr/>
          <p:nvPr/>
        </p:nvPicPr>
        <p:blipFill>
          <a:blip r:embed="rId2"/>
          <a:stretch/>
        </p:blipFill>
        <p:spPr>
          <a:xfrm>
            <a:off x="17524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BD21298_"/>
          <p:cNvPicPr/>
          <p:nvPr/>
        </p:nvPicPr>
        <p:blipFill>
          <a:blip r:embed="rId3"/>
          <a:stretch/>
        </p:blipFill>
        <p:spPr>
          <a:xfrm>
            <a:off x="1752480" y="3657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2133720" y="3048120"/>
            <a:ext cx="48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get’s Developmental Cognitive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gotsky’s Social Interaction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cess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0880" y="445608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ist approach focuses on social interactions between L2 learners and the target language spea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interactions give the L2 learners feedback on both correct and incorrect language u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38-talking"/>
          <p:cNvPicPr/>
          <p:nvPr/>
        </p:nvPicPr>
        <p:blipFill>
          <a:blip r:embed="rId4"/>
          <a:stretch/>
        </p:blipFill>
        <p:spPr>
          <a:xfrm>
            <a:off x="7010280" y="2209680"/>
            <a:ext cx="135576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itical Period Hypothesis – Age and The L2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language acquisition only takes place between the ages of 2 and 12 years o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a part of the brain -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age 2 the brain in not rea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he age of 12 the brain looses plast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ritical Period Hypothesis limits both native language learning and second language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C900141317[1]"/>
          <p:cNvPicPr/>
          <p:nvPr/>
        </p:nvPicPr>
        <p:blipFill>
          <a:blip r:embed="rId1"/>
          <a:stretch/>
        </p:blipFill>
        <p:spPr>
          <a:xfrm>
            <a:off x="6705720" y="914400"/>
            <a:ext cx="957240" cy="10857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vl0008b009"/>
          <p:cNvPicPr/>
          <p:nvPr/>
        </p:nvPicPr>
        <p:blipFill>
          <a:blip r:embed="rId2"/>
          <a:stretch/>
        </p:blipFill>
        <p:spPr>
          <a:xfrm>
            <a:off x="6934320" y="2971800"/>
            <a:ext cx="15238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ritical Factors That Affect L2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Organization Chart 5"/>
          <p:cNvGrpSpPr/>
          <p:nvPr/>
        </p:nvGrpSpPr>
        <p:grpSpPr>
          <a:xfrm>
            <a:off x="457200" y="1600200"/>
            <a:ext cx="8228880" cy="4524480"/>
            <a:chOff x="457200" y="1600200"/>
            <a:chExt cx="8228880" cy="4524480"/>
          </a:xfrm>
        </p:grpSpPr>
        <p:cxnSp>
          <p:nvCxnSpPr>
            <p:cNvPr id="70" name="_s1028"/>
            <p:cNvCxnSpPr>
              <a:stCxn id="71" idx="0"/>
              <a:endCxn id="72" idx="2"/>
            </p:cNvCxnSpPr>
            <p:nvPr/>
          </p:nvCxnSpPr>
          <p:spPr>
            <a:xfrm flipV="1" rot="16200000">
              <a:off x="5558760" y="2421360"/>
              <a:ext cx="905400" cy="288072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29"/>
            <p:cNvCxnSpPr>
              <a:stCxn id="74" idx="0"/>
              <a:endCxn id="72" idx="2"/>
            </p:cNvCxnSpPr>
            <p:nvPr/>
          </p:nvCxnSpPr>
          <p:spPr>
            <a:xfrm flipV="1">
              <a:off x="4571280" y="3409200"/>
              <a:ext cx="3240" cy="90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5" name="_s1030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2680200" y="2422800"/>
              <a:ext cx="905400" cy="2878200"/>
            </a:xfrm>
            <a:prstGeom prst="bentConnector3">
              <a:avLst>
                <a:gd name="adj1" fmla="val 208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2" name="_s1031"/>
            <p:cNvSpPr/>
            <p:nvPr/>
          </p:nvSpPr>
          <p:spPr>
            <a:xfrm>
              <a:off x="3337200" y="160020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alqui – 3 catego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at affect second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nguage learn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1032"/>
            <p:cNvSpPr/>
            <p:nvPr/>
          </p:nvSpPr>
          <p:spPr>
            <a:xfrm>
              <a:off x="45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anguag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anguage distanc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knowledge of L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1 proficienc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333720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earn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motivation for L2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upport from home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lassroom divers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34"/>
            <p:cNvSpPr/>
            <p:nvPr/>
          </p:nvSpPr>
          <p:spPr>
            <a:xfrm>
              <a:off x="6217560" y="4314960"/>
              <a:ext cx="2468520" cy="18097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Learning Proces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style of learning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cultural of learner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interactions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14" descr="CACDBXJ4"/>
          <p:cNvPicPr/>
          <p:nvPr/>
        </p:nvPicPr>
        <p:blipFill>
          <a:blip r:embed="rId1"/>
          <a:stretch/>
        </p:blipFill>
        <p:spPr>
          <a:xfrm>
            <a:off x="6172200" y="1600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For Teach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and foremost get to know your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lessons with social interactions in mind to encourage linguistic inter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students motivate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the students’ cultures – use books etc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it important to the students – use real life situa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dglxasset[1]"/>
          <p:cNvPicPr/>
          <p:nvPr/>
        </p:nvPicPr>
        <p:blipFill>
          <a:blip r:embed="rId1"/>
          <a:stretch/>
        </p:blipFill>
        <p:spPr>
          <a:xfrm>
            <a:off x="457200" y="380880"/>
            <a:ext cx="1676520" cy="1365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MM900285289[2]"/>
          <p:cNvPicPr/>
          <p:nvPr/>
        </p:nvPicPr>
        <p:blipFill>
          <a:blip r:embed="rId2"/>
          <a:stretch/>
        </p:blipFill>
        <p:spPr>
          <a:xfrm>
            <a:off x="6934320" y="152280"/>
            <a:ext cx="14904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533520" y="156960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LL Students at McMurray Middl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nteractionist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many opportunities for academic and social interactions in the class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operative learning whenever possible and use heterogeneo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rage continued learning of L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continuous feedback to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murray"/>
          <p:cNvPicPr/>
          <p:nvPr/>
        </p:nvPicPr>
        <p:blipFill>
          <a:blip r:embed="rId1"/>
          <a:stretch/>
        </p:blipFill>
        <p:spPr>
          <a:xfrm>
            <a:off x="1066680" y="228600"/>
            <a:ext cx="70009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4T01:02:31Z</dcterms:created>
  <dc:creator>sstinson1</dc:creator>
  <dc:description/>
  <dc:language>en-US</dc:language>
  <cp:lastModifiedBy>Sirci Stinson</cp:lastModifiedBy>
  <dcterms:modified xsi:type="dcterms:W3CDTF">2011-05-25T02:14:03Z</dcterms:modified>
  <cp:revision>10</cp:revision>
  <dc:subject/>
  <dc:title>Formal Approaches to Second Language Acquisition</dc:title>
</cp:coreProperties>
</file>